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651-796F-4DB1-BD5D-B0455CC6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005-2374-4D6E-B373-E9D43F05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BD5-BF1A-4101-A35D-4FE2E225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8958-CC3A-45C5-B3E1-A5CCC065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B93B-D516-460C-A14C-777A7A57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708-DD8B-4FB1-A0AA-9120AF03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7FD2-6F81-494D-9B26-8E9FC0C0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5CC1-9530-4629-A269-F07FBE31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2296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E23A-FC5E-4194-957C-6360845E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669-2C73-4AD3-BCEF-F07859A3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DE3-13C6-4665-8631-CA904471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6235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EFA-1867-4840-BED8-E9913FF8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75280" y="65246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DA65-DC1D-4255-85D8-8238FA7D72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 изменениях в работе Федерального казначей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дерального закона от 08.05.2010 № 83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06560" y="6021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. Е. Артюх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санкционирования расходов федеральных  бюджетных учреждений, источником финансового обеспечения которых являются субсидии, полученные в соответствии с абзацем вторым части 1 статьи 78.1 Бюджетного кодекса Российской Федерации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санкционирования расходов федеральных  бюджетных учреждений, источником финансового обеспечения которых являются субсидии, полученные в соответствии с пунктом 5 статьи 79 Бюджетного кодекса Российской Федерации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будет разработан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Минфина России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взыскании в соответствующий бюджет неиспользованных остатков субсидий, предоставленных из бюджетов бюджетной системы Российской Федерации государственным (муниципальным) учреждениям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осуществления территориальными органами Федерального казначейства проведения кассовых выплат за счет средств бюджетных учреждений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осуществления территориальными органами Федерального казначейства проведения кассовых выплат за счет средств автономных учреждений, лицевые счета которым открыты в территориальных органах Федерального казначейства»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мещен на сайте Минфина России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en-US" sz="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«О порядке учета и хранения исполнительных документов, предусматривающих обращение взыскания на средства бюджетных учреждений, лицевые счета которых открыты в территориальных органах Федерального казначейства, и иных документов, связанных с их исполнением» </a:t>
            </a:r>
            <a:r>
              <a:rPr b="1" lang="en-US" sz="14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я нормативно-правовых ак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657-C639-4FF6-BD95-F3AA60626E0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0"/>
                            </p:stCondLst>
                            <p:childTnLst>
                              <p:par>
                                <p:cTn id="8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0"/>
                            </p:stCondLst>
                            <p:childTnLst>
                              <p:par>
                                <p:cTn id="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Открытие счета в ЦБ РФ или кредитной организ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844640"/>
            <a:ext cx="914400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чета операций со средст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федеральных бюджетных 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рган Федерального казначейства открыва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учреждении Центрального банк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счет на балансовом счете № 405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в федеральной собственности. Финансовые организ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E841-BB8C-4E44-A0FD-ED188203EE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08000" y="692280"/>
            <a:ext cx="88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Проведение кассовых выплат за счёт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бюджет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28520" y="1484280"/>
            <a:ext cx="9015480" cy="4827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000840" y="2928960"/>
            <a:ext cx="314316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чет № 405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федеральной собственности. Финансовые организации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71880" y="2928960"/>
            <a:ext cx="2786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- </a:t>
            </a:r>
            <a:r>
              <a:rPr b="1" lang="en-US" sz="1200" spc="-1" strike="noStrike">
                <a:solidFill>
                  <a:srgbClr val="ff5050"/>
                </a:solidFill>
                <a:latin typeface="Times New Roman"/>
              </a:rPr>
              <a:t>Учет по КОСГУ и кодам субсид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8577200">
            <a:off x="67320" y="2071080"/>
            <a:ext cx="22431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ff"/>
                </a:solidFill>
                <a:latin typeface="Book Antiqua"/>
              </a:rPr>
              <a:t>Сведения об операциях с субсидиями, предоставленными Г(М)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99ff"/>
                </a:solidFill>
                <a:latin typeface="Book Antiqua"/>
              </a:rPr>
              <a:t>+</a:t>
            </a:r>
            <a:r>
              <a:rPr b="0" i="1" lang="en-US" sz="1200" spc="-1" strike="noStrike">
                <a:solidFill>
                  <a:srgbClr val="3366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B979-C4EB-44ED-8A6C-AECE62BEAD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8000" y="692280"/>
            <a:ext cx="885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Проведение кассовых выплат за счёт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Book Antiqua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3360" y="1500120"/>
            <a:ext cx="9015480" cy="484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6"/>
          <p:cNvSpPr/>
          <p:nvPr/>
        </p:nvSpPr>
        <p:spPr>
          <a:xfrm>
            <a:off x="7358040" y="41212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071880" y="2928960"/>
            <a:ext cx="278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- Учет по КОСГУ НЕ ведет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6000840" y="2928960"/>
            <a:ext cx="3143160" cy="10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Счет № 40501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«Счета организаций, находящихся федеральной собственности. Финансовые организации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омер слайда 6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B53-251A-4417-BEC4-603F68BD17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Обращение взыскания на средства бюджетных учрежден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 порядке учета и хранения исполнительных документов, предусматривающих обращение взыскания на средства бюджетных учреждений, лицевые счета которых открыты в территориальных органах Федерального казначейства, и иных документов, связанных с их исполнением»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52E0-76C3-4B67-A10D-DFAF4B60E8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108000" y="785880"/>
            <a:ext cx="9036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c80"/>
                </a:solidFill>
                <a:latin typeface="Times New Roman"/>
              </a:rPr>
              <a:t>Особенности обращения взыскания на средства бюджетных учрежден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701028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557360"/>
          <a:ext cx="813600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13600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4C9-6E2C-4693-BAB3-2282EDE143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Регистрация пользователей и ведение совместно с Минэкономразвития России официального сайта Российской Федерации в сети «Интернет» для размещения информации о размещении заказов на поставку товаров, выполнение работ, оказание услуг для государственных и муниципальных нуж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 Министерства экономического развития Российской Федерации и Федерального казначейства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«О</a:t>
            </a:r>
            <a:r>
              <a:rPr b="0" lang="en-US" sz="24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орядке регистрации пользователей и пользования официальным сайтом Российской Федерации в сети «Интернет» для размещения информации о размещении заказов на поставки товаров, выполнение работ, оказание услуг для государственных и муниципальных нуж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DA1-B38E-4DFF-86DD-630C6CE312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te4"/>
          <p:cNvSpPr/>
          <p:nvPr/>
        </p:nvSpPr>
        <p:spPr>
          <a:xfrm>
            <a:off x="617400" y="5691240"/>
            <a:ext cx="8267760" cy="96984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te4"/>
          <p:cNvSpPr/>
          <p:nvPr/>
        </p:nvSpPr>
        <p:spPr>
          <a:xfrm>
            <a:off x="4970520" y="5757840"/>
            <a:ext cx="3959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ГУП, МУП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Субъекты естественных монопол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изации с долей государственного участ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Иные юридические лиц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заимодействие клиентов с ОО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ame3"/>
          <p:cNvSpPr/>
          <p:nvPr/>
        </p:nvSpPr>
        <p:spPr>
          <a:xfrm>
            <a:off x="2112840" y="1173240"/>
            <a:ext cx="6772320" cy="2547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ame3"/>
          <p:cNvSpPr/>
          <p:nvPr/>
        </p:nvSpPr>
        <p:spPr>
          <a:xfrm>
            <a:off x="582480" y="4319640"/>
            <a:ext cx="8298000" cy="1214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олномоч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te4"/>
          <p:cNvSpPr/>
          <p:nvPr/>
        </p:nvSpPr>
        <p:spPr>
          <a:xfrm>
            <a:off x="2495520" y="1531800"/>
            <a:ext cx="1811520" cy="2040120"/>
          </a:xfrm>
          <a:custGeom>
            <a:avLst/>
            <a:gdLst>
              <a:gd name="textAreaLeft" fmla="*/ 88200 w 1811520"/>
              <a:gd name="textAreaRight" fmla="*/ 1723320 w 1811520"/>
              <a:gd name="textAreaTop" fmla="*/ 88200 h 2040120"/>
              <a:gd name="textAreaBottom" fmla="*/ 1951920 h 2040120"/>
            </a:gdLst>
            <a:ahLst/>
            <a:rect l="textAreaLeft" t="textAreaTop" r="textAreaRight" b="textAreaBottom"/>
            <a:pathLst>
              <a:path w="21600" h="24325">
                <a:moveTo>
                  <a:pt x="3600" y="0"/>
                </a:moveTo>
                <a:arcTo wR="3600" hR="3600" stAng="16200000" swAng="-5400000"/>
                <a:lnTo>
                  <a:pt x="0" y="20725"/>
                </a:lnTo>
                <a:arcTo wR="3600" hR="3600" stAng="10800000" swAng="-5400000"/>
                <a:lnTo>
                  <a:pt x="18000" y="243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b" anchorCtr="1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te4"/>
          <p:cNvSpPr/>
          <p:nvPr/>
        </p:nvSpPr>
        <p:spPr>
          <a:xfrm>
            <a:off x="5581800" y="1519200"/>
            <a:ext cx="3112920" cy="20541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>
            <a:noAutofit/>
          </a:bodyPr>
          <a:p>
            <a:pPr algn="ctr">
              <a:lnSpc>
                <a:spcPct val="9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te4"/>
          <p:cNvSpPr/>
          <p:nvPr/>
        </p:nvSpPr>
        <p:spPr>
          <a:xfrm>
            <a:off x="1987560" y="4560840"/>
            <a:ext cx="9954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Заказч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te4"/>
          <p:cNvSpPr/>
          <p:nvPr/>
        </p:nvSpPr>
        <p:spPr>
          <a:xfrm>
            <a:off x="386856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te4"/>
          <p:cNvSpPr/>
          <p:nvPr/>
        </p:nvSpPr>
        <p:spPr>
          <a:xfrm>
            <a:off x="204624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te4"/>
          <p:cNvSpPr/>
          <p:nvPr/>
        </p:nvSpPr>
        <p:spPr>
          <a:xfrm>
            <a:off x="568152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te4"/>
          <p:cNvSpPr/>
          <p:nvPr/>
        </p:nvSpPr>
        <p:spPr>
          <a:xfrm>
            <a:off x="7494480" y="5691240"/>
            <a:ext cx="12510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4" idx="0"/>
            <a:endCxn id="105" idx="2"/>
          </p:cNvCxnSpPr>
          <p:nvPr/>
        </p:nvCxnSpPr>
        <p:spPr>
          <a:xfrm flipV="1">
            <a:off x="3669840" y="3572640"/>
            <a:ext cx="1080" cy="89604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plate4"/>
          <p:cNvSpPr/>
          <p:nvPr/>
        </p:nvSpPr>
        <p:spPr>
          <a:xfrm>
            <a:off x="706320" y="5681520"/>
            <a:ext cx="41371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государственной власти (местного самоуправления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Органы управления ГВБФ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88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Бюджетные учреждени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27520" y="2808360"/>
            <a:ext cx="30736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te4"/>
          <p:cNvSpPr/>
          <p:nvPr/>
        </p:nvSpPr>
        <p:spPr>
          <a:xfrm>
            <a:off x="7908840" y="3355920"/>
            <a:ext cx="65880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te4"/>
          <p:cNvSpPr/>
          <p:nvPr/>
        </p:nvSpPr>
        <p:spPr>
          <a:xfrm>
            <a:off x="8158320" y="1917720"/>
            <a:ext cx="6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te4"/>
          <p:cNvSpPr/>
          <p:nvPr/>
        </p:nvSpPr>
        <p:spPr>
          <a:xfrm>
            <a:off x="7961400" y="2522520"/>
            <a:ext cx="249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7899120" y="203004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7829280" y="287460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te4"/>
          <p:cNvSpPr/>
          <p:nvPr/>
        </p:nvSpPr>
        <p:spPr>
          <a:xfrm>
            <a:off x="2577960" y="341784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te4"/>
          <p:cNvSpPr/>
          <p:nvPr/>
        </p:nvSpPr>
        <p:spPr>
          <a:xfrm>
            <a:off x="3894120" y="4473720"/>
            <a:ext cx="544680" cy="144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te4"/>
          <p:cNvSpPr/>
          <p:nvPr/>
        </p:nvSpPr>
        <p:spPr>
          <a:xfrm>
            <a:off x="7943760" y="1555920"/>
            <a:ext cx="65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7" idx="1"/>
            <a:endCxn id="118" idx="3"/>
          </p:cNvCxnSpPr>
          <p:nvPr/>
        </p:nvCxnSpPr>
        <p:spPr>
          <a:xfrm flipH="1">
            <a:off x="1181880" y="2211120"/>
            <a:ext cx="13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19" name="plate4"/>
          <p:cNvSpPr/>
          <p:nvPr/>
        </p:nvSpPr>
        <p:spPr>
          <a:xfrm>
            <a:off x="2496960" y="278136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te4"/>
          <p:cNvSpPr/>
          <p:nvPr/>
        </p:nvSpPr>
        <p:spPr>
          <a:xfrm>
            <a:off x="2496960" y="213372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50520" y="1196640"/>
            <a:ext cx="531720" cy="2592360"/>
            <a:chOff x="650520" y="1196640"/>
            <a:chExt cx="531720" cy="2592360"/>
          </a:xfrm>
        </p:grpSpPr>
        <p:sp>
          <p:nvSpPr>
            <p:cNvPr id="121" name="plate4"/>
            <p:cNvSpPr/>
            <p:nvPr/>
          </p:nvSpPr>
          <p:spPr>
            <a:xfrm rot="10800000">
              <a:off x="650520" y="1196640"/>
              <a:ext cx="531720" cy="2592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82800" bIns="46800" anchor="t" anchorCtr="1" vert="eaVert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Участники закупо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plate4"/>
            <p:cNvSpPr/>
            <p:nvPr/>
          </p:nvSpPr>
          <p:spPr>
            <a:xfrm>
              <a:off x="774000" y="2133720"/>
              <a:ext cx="4082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plate4"/>
            <p:cNvSpPr/>
            <p:nvPr/>
          </p:nvSpPr>
          <p:spPr>
            <a:xfrm>
              <a:off x="774000" y="2781360"/>
              <a:ext cx="408240" cy="155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19" idx="1"/>
            <a:endCxn id="122" idx="3"/>
          </p:cNvCxnSpPr>
          <p:nvPr/>
        </p:nvCxnSpPr>
        <p:spPr>
          <a:xfrm flipH="1">
            <a:off x="1181880" y="2858760"/>
            <a:ext cx="1315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24" name=""/>
          <p:cNvSpPr/>
          <p:nvPr/>
        </p:nvSpPr>
        <p:spPr>
          <a:xfrm rot="10800000">
            <a:off x="7829280" y="2207880"/>
            <a:ext cx="36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te4"/>
          <p:cNvSpPr/>
          <p:nvPr/>
        </p:nvSpPr>
        <p:spPr>
          <a:xfrm>
            <a:off x="5640480" y="3808440"/>
            <a:ext cx="11350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Сведения об организации, подтверждающие документы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te4"/>
          <p:cNvSpPr/>
          <p:nvPr/>
        </p:nvSpPr>
        <p:spPr>
          <a:xfrm rot="5400000">
            <a:off x="3936600" y="2490480"/>
            <a:ext cx="590400" cy="133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te4"/>
          <p:cNvSpPr/>
          <p:nvPr/>
        </p:nvSpPr>
        <p:spPr>
          <a:xfrm>
            <a:off x="1247760" y="2349360"/>
            <a:ext cx="903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Получение информации по закупка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te4"/>
          <p:cNvSpPr/>
          <p:nvPr/>
        </p:nvSpPr>
        <p:spPr>
          <a:xfrm>
            <a:off x="2577960" y="2314440"/>
            <a:ext cx="1595520" cy="444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сайт Российской Федерации в 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te4"/>
          <p:cNvSpPr/>
          <p:nvPr/>
        </p:nvSpPr>
        <p:spPr>
          <a:xfrm>
            <a:off x="3081240" y="34178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te4"/>
          <p:cNvSpPr/>
          <p:nvPr/>
        </p:nvSpPr>
        <p:spPr>
          <a:xfrm>
            <a:off x="2577960" y="4570560"/>
            <a:ext cx="61308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te4"/>
          <p:cNvSpPr/>
          <p:nvPr/>
        </p:nvSpPr>
        <p:spPr>
          <a:xfrm>
            <a:off x="3081240" y="4468680"/>
            <a:ext cx="612720" cy="155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te4"/>
          <p:cNvSpPr/>
          <p:nvPr/>
        </p:nvSpPr>
        <p:spPr>
          <a:xfrm>
            <a:off x="3851280" y="4076640"/>
            <a:ext cx="70308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te4"/>
          <p:cNvSpPr/>
          <p:nvPr/>
        </p:nvSpPr>
        <p:spPr>
          <a:xfrm>
            <a:off x="8143920" y="447516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te4"/>
          <p:cNvSpPr/>
          <p:nvPr/>
        </p:nvSpPr>
        <p:spPr>
          <a:xfrm rot="5400000">
            <a:off x="6797160" y="2020680"/>
            <a:ext cx="663840" cy="142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 flipV="1">
            <a:off x="7740360" y="3573000"/>
            <a:ext cx="1080" cy="766080"/>
          </a:xfrm>
          <a:prstGeom prst="bentConnector2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4" name="plate4"/>
          <p:cNvSpPr/>
          <p:nvPr/>
        </p:nvSpPr>
        <p:spPr>
          <a:xfrm>
            <a:off x="7829640" y="4076640"/>
            <a:ext cx="703080" cy="16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te4"/>
          <p:cNvSpPr/>
          <p:nvPr/>
        </p:nvSpPr>
        <p:spPr>
          <a:xfrm>
            <a:off x="6310440" y="447516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 flipH="1" flipV="1" rot="5400000">
            <a:off x="5904360" y="3391200"/>
            <a:ext cx="1801080" cy="2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plate4"/>
          <p:cNvSpPr/>
          <p:nvPr/>
        </p:nvSpPr>
        <p:spPr>
          <a:xfrm>
            <a:off x="7058160" y="432576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/>
          <p:nvPr/>
        </p:nvCxnSpPr>
        <p:spPr>
          <a:xfrm flipV="1" rot="10800000">
            <a:off x="4355280" y="2203920"/>
            <a:ext cx="2561400" cy="2520"/>
          </a:xfrm>
          <a:prstGeom prst="bentConnector3">
            <a:avLst>
              <a:gd name="adj1" fmla="val 5002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plate4"/>
          <p:cNvSpPr/>
          <p:nvPr/>
        </p:nvSpPr>
        <p:spPr>
          <a:xfrm rot="5400000">
            <a:off x="3940200" y="2165400"/>
            <a:ext cx="590400" cy="133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te4"/>
          <p:cNvSpPr/>
          <p:nvPr/>
        </p:nvSpPr>
        <p:spPr>
          <a:xfrm>
            <a:off x="6372360" y="30686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te4"/>
          <p:cNvSpPr/>
          <p:nvPr/>
        </p:nvSpPr>
        <p:spPr>
          <a:xfrm>
            <a:off x="6292800" y="1825560"/>
            <a:ext cx="1951200" cy="6336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Сводный перечень заказчик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te4"/>
          <p:cNvSpPr/>
          <p:nvPr/>
        </p:nvSpPr>
        <p:spPr>
          <a:xfrm>
            <a:off x="6975360" y="2386080"/>
            <a:ext cx="71136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67560" y="2093760"/>
            <a:ext cx="12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te4"/>
          <p:cNvSpPr/>
          <p:nvPr/>
        </p:nvSpPr>
        <p:spPr>
          <a:xfrm>
            <a:off x="5504040" y="349092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te4"/>
          <p:cNvSpPr/>
          <p:nvPr/>
        </p:nvSpPr>
        <p:spPr>
          <a:xfrm rot="5400000">
            <a:off x="5329800" y="1815120"/>
            <a:ext cx="590760" cy="6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5120" bIns="1512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te4"/>
          <p:cNvSpPr/>
          <p:nvPr/>
        </p:nvSpPr>
        <p:spPr>
          <a:xfrm>
            <a:off x="54388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тролирую-щи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te4"/>
          <p:cNvSpPr/>
          <p:nvPr/>
        </p:nvSpPr>
        <p:spPr>
          <a:xfrm>
            <a:off x="658656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Финансовы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te4"/>
          <p:cNvSpPr/>
          <p:nvPr/>
        </p:nvSpPr>
        <p:spPr>
          <a:xfrm>
            <a:off x="77104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Оператор ОО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Оператор Э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te4"/>
          <p:cNvSpPr/>
          <p:nvPr/>
        </p:nvSpPr>
        <p:spPr>
          <a:xfrm>
            <a:off x="2638440" y="3735360"/>
            <a:ext cx="7318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Информация по закупк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te4"/>
          <p:cNvSpPr/>
          <p:nvPr/>
        </p:nvSpPr>
        <p:spPr>
          <a:xfrm>
            <a:off x="5275440" y="449100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te4"/>
          <p:cNvSpPr/>
          <p:nvPr/>
        </p:nvSpPr>
        <p:spPr>
          <a:xfrm rot="5400000">
            <a:off x="3949200" y="1779480"/>
            <a:ext cx="590760" cy="133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te4"/>
          <p:cNvSpPr/>
          <p:nvPr/>
        </p:nvSpPr>
        <p:spPr>
          <a:xfrm>
            <a:off x="4186080" y="1903320"/>
            <a:ext cx="1500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Информация об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организация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te4"/>
          <p:cNvSpPr/>
          <p:nvPr/>
        </p:nvSpPr>
        <p:spPr>
          <a:xfrm>
            <a:off x="4295880" y="4560840"/>
            <a:ext cx="99684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Специализиро-ванная организа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te4"/>
          <p:cNvSpPr/>
          <p:nvPr/>
        </p:nvSpPr>
        <p:spPr>
          <a:xfrm>
            <a:off x="3135240" y="4560840"/>
            <a:ext cx="997200" cy="71928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Уполномочен-ный орг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te4"/>
          <p:cNvSpPr/>
          <p:nvPr/>
        </p:nvSpPr>
        <p:spPr>
          <a:xfrm>
            <a:off x="1898640" y="4471920"/>
            <a:ext cx="3456000" cy="960480"/>
          </a:xfrm>
          <a:prstGeom prst="rect">
            <a:avLst/>
          </a:prstGeom>
          <a:noFill/>
          <a:ln w="1908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te4"/>
          <p:cNvSpPr/>
          <p:nvPr/>
        </p:nvSpPr>
        <p:spPr>
          <a:xfrm>
            <a:off x="7491240" y="4338720"/>
            <a:ext cx="54468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te4"/>
          <p:cNvSpPr/>
          <p:nvPr/>
        </p:nvSpPr>
        <p:spPr>
          <a:xfrm>
            <a:off x="7585200" y="4592520"/>
            <a:ext cx="54432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te4"/>
          <p:cNvSpPr/>
          <p:nvPr/>
        </p:nvSpPr>
        <p:spPr>
          <a:xfrm>
            <a:off x="7491240" y="3500280"/>
            <a:ext cx="544680" cy="73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9800" bIns="19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te4"/>
          <p:cNvSpPr/>
          <p:nvPr/>
        </p:nvSpPr>
        <p:spPr>
          <a:xfrm>
            <a:off x="2179800" y="5691240"/>
            <a:ext cx="6109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te4"/>
          <p:cNvSpPr/>
          <p:nvPr/>
        </p:nvSpPr>
        <p:spPr>
          <a:xfrm>
            <a:off x="3316320" y="56912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te4"/>
          <p:cNvSpPr/>
          <p:nvPr/>
        </p:nvSpPr>
        <p:spPr>
          <a:xfrm>
            <a:off x="4465800" y="5678640"/>
            <a:ext cx="6109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te4"/>
          <p:cNvSpPr/>
          <p:nvPr/>
        </p:nvSpPr>
        <p:spPr>
          <a:xfrm>
            <a:off x="5648400" y="56912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te4"/>
          <p:cNvSpPr/>
          <p:nvPr/>
        </p:nvSpPr>
        <p:spPr>
          <a:xfrm>
            <a:off x="6877080" y="566100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te4"/>
          <p:cNvSpPr/>
          <p:nvPr/>
        </p:nvSpPr>
        <p:spPr>
          <a:xfrm>
            <a:off x="7934400" y="5678640"/>
            <a:ext cx="612720" cy="155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" name=""/>
          <p:cNvCxnSpPr/>
          <p:nvPr/>
        </p:nvCxnSpPr>
        <p:spPr>
          <a:xfrm flipH="1" flipV="1" rot="5400000">
            <a:off x="6086880" y="3424680"/>
            <a:ext cx="1867680" cy="2160"/>
          </a:xfrm>
          <a:prstGeom prst="bentConnector3">
            <a:avLst>
              <a:gd name="adj1" fmla="val 49990"/>
            </a:avLst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66" name="plate4"/>
          <p:cNvSpPr/>
          <p:nvPr/>
        </p:nvSpPr>
        <p:spPr>
          <a:xfrm>
            <a:off x="7023240" y="3811680"/>
            <a:ext cx="6793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112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5640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71636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09308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824400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AD98-E02E-4373-8CD8-AC1CDAEBA8D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Открытие и ведение лицевых счетов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Проведение кассовых выпла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за счёт средств бюджетных и автоном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Обращение взыск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на средства бюджет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Регистрация пользователей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и ведение совместно с Минэкономразвития России официального сайта РФ в сети «Интернет» для размещения информации о размещении заказов на поставку товаров, выполнение работ, оказание услуг для государственных и муниципальных нуж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Times New Roman"/>
              </a:rPr>
              <a:t>Размещение на сайт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ети «Интернет» информации о деятельности государственных и муниципальных учрежд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Изменения в работ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C05-E0CE-42FF-9ED7-41C8B3B6F3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ame3"/>
          <p:cNvSpPr/>
          <p:nvPr/>
        </p:nvSpPr>
        <p:spPr>
          <a:xfrm>
            <a:off x="324000" y="1173240"/>
            <a:ext cx="8424720" cy="3195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5960" y="1569960"/>
            <a:ext cx="5992920" cy="268308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Регистрация участников бюджетного процесса федеральн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te4"/>
          <p:cNvSpPr/>
          <p:nvPr/>
        </p:nvSpPr>
        <p:spPr>
          <a:xfrm>
            <a:off x="395280" y="5380200"/>
            <a:ext cx="6743880" cy="10015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te4"/>
          <p:cNvSpPr/>
          <p:nvPr/>
        </p:nvSpPr>
        <p:spPr>
          <a:xfrm>
            <a:off x="4199040" y="5369040"/>
            <a:ext cx="2859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te4"/>
          <p:cNvSpPr/>
          <p:nvPr/>
        </p:nvSpPr>
        <p:spPr>
          <a:xfrm>
            <a:off x="1403280" y="5369040"/>
            <a:ext cx="27957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астник бюджетного процесса федерального уровн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te4"/>
          <p:cNvSpPr/>
          <p:nvPr/>
        </p:nvSpPr>
        <p:spPr>
          <a:xfrm>
            <a:off x="3021120" y="538020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te4"/>
          <p:cNvSpPr/>
          <p:nvPr/>
        </p:nvSpPr>
        <p:spPr>
          <a:xfrm>
            <a:off x="4581360" y="5380200"/>
            <a:ext cx="14288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"/>
          <p:cNvCxnSpPr/>
          <p:nvPr/>
        </p:nvCxnSpPr>
        <p:spPr>
          <a:xfrm flipV="1">
            <a:off x="3850920" y="4005000"/>
            <a:ext cx="1080" cy="140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82" name=""/>
          <p:cNvCxnSpPr/>
          <p:nvPr/>
        </p:nvCxnSpPr>
        <p:spPr>
          <a:xfrm>
            <a:off x="5292360" y="3357720"/>
            <a:ext cx="3960" cy="20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3" name="plate4"/>
          <p:cNvSpPr/>
          <p:nvPr/>
        </p:nvSpPr>
        <p:spPr>
          <a:xfrm>
            <a:off x="4638600" y="5380200"/>
            <a:ext cx="66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te4"/>
          <p:cNvSpPr/>
          <p:nvPr/>
        </p:nvSpPr>
        <p:spPr>
          <a:xfrm>
            <a:off x="6924600" y="5369040"/>
            <a:ext cx="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/>
          <p:nvPr/>
        </p:nvCxnSpPr>
        <p:spPr>
          <a:xfrm flipV="1">
            <a:off x="7020000" y="4220280"/>
            <a:ext cx="2160" cy="1166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86" name="frame3"/>
          <p:cNvSpPr/>
          <p:nvPr/>
        </p:nvSpPr>
        <p:spPr>
          <a:xfrm>
            <a:off x="6948360" y="1557360"/>
            <a:ext cx="1527480" cy="267012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йт Россий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ци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te4"/>
          <p:cNvSpPr/>
          <p:nvPr/>
        </p:nvSpPr>
        <p:spPr>
          <a:xfrm>
            <a:off x="6924600" y="4022640"/>
            <a:ext cx="651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te4"/>
          <p:cNvSpPr/>
          <p:nvPr/>
        </p:nvSpPr>
        <p:spPr>
          <a:xfrm>
            <a:off x="68691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/>
          <p:nvPr/>
        </p:nvCxnSpPr>
        <p:spPr>
          <a:xfrm>
            <a:off x="5940360" y="2133360"/>
            <a:ext cx="101520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190" name=""/>
          <p:cNvSpPr/>
          <p:nvPr/>
        </p:nvSpPr>
        <p:spPr>
          <a:xfrm>
            <a:off x="5325840" y="4532400"/>
            <a:ext cx="7880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67800" y="4532400"/>
            <a:ext cx="8582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егистрация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5920" y="394020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1700280"/>
            <a:ext cx="97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мещ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нных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6120" y="163656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te4"/>
          <p:cNvSpPr/>
          <p:nvPr/>
        </p:nvSpPr>
        <p:spPr>
          <a:xfrm>
            <a:off x="3203640" y="3213000"/>
            <a:ext cx="121752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Прием и проверка документ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te4"/>
          <p:cNvSpPr/>
          <p:nvPr/>
        </p:nvSpPr>
        <p:spPr>
          <a:xfrm>
            <a:off x="4651200" y="1738440"/>
            <a:ext cx="128304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Регистрация организ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te4"/>
          <p:cNvSpPr/>
          <p:nvPr/>
        </p:nvSpPr>
        <p:spPr>
          <a:xfrm>
            <a:off x="5438880" y="4998960"/>
            <a:ext cx="62856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te4"/>
          <p:cNvSpPr/>
          <p:nvPr/>
        </p:nvSpPr>
        <p:spPr>
          <a:xfrm>
            <a:off x="7067520" y="4998960"/>
            <a:ext cx="630360" cy="16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te4"/>
          <p:cNvSpPr/>
          <p:nvPr/>
        </p:nvSpPr>
        <p:spPr>
          <a:xfrm rot="5400000">
            <a:off x="5565600" y="2228760"/>
            <a:ext cx="525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te4"/>
          <p:cNvSpPr/>
          <p:nvPr/>
        </p:nvSpPr>
        <p:spPr>
          <a:xfrm rot="5400000">
            <a:off x="5558040" y="2736000"/>
            <a:ext cx="52560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/>
          <p:nvPr/>
        </p:nvCxnSpPr>
        <p:spPr>
          <a:xfrm flipH="1">
            <a:off x="5940000" y="2276640"/>
            <a:ext cx="8640" cy="506880"/>
          </a:xfrm>
          <a:prstGeom prst="bentConnector3">
            <a:avLst>
              <a:gd name="adj1" fmla="val -195652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02" name=""/>
          <p:cNvSpPr/>
          <p:nvPr/>
        </p:nvSpPr>
        <p:spPr>
          <a:xfrm>
            <a:off x="6084720" y="2205000"/>
            <a:ext cx="971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дтверждение полномочий для выдачи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te4"/>
          <p:cNvSpPr/>
          <p:nvPr/>
        </p:nvSpPr>
        <p:spPr>
          <a:xfrm>
            <a:off x="3813120" y="375768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5800" y="4481640"/>
            <a:ext cx="153972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редставл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кументов для регистрации организации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явки на получение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te4"/>
          <p:cNvSpPr/>
          <p:nvPr/>
        </p:nvSpPr>
        <p:spPr>
          <a:xfrm>
            <a:off x="2679840" y="5408640"/>
            <a:ext cx="1569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te4"/>
          <p:cNvSpPr/>
          <p:nvPr/>
        </p:nvSpPr>
        <p:spPr>
          <a:xfrm>
            <a:off x="583740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2928960"/>
            <a:ext cx="59994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17960" y="176544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17960" y="370836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17960" y="201924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17960" y="227340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117960" y="350532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38360" y="219708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46440" y="3505320"/>
            <a:ext cx="164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/>
          <p:nvPr/>
        </p:nvCxnSpPr>
        <p:spPr>
          <a:xfrm>
            <a:off x="1979280" y="3573000"/>
            <a:ext cx="11991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216" name="plate4"/>
          <p:cNvSpPr/>
          <p:nvPr/>
        </p:nvSpPr>
        <p:spPr>
          <a:xfrm>
            <a:off x="4651200" y="2610000"/>
            <a:ext cx="1283040" cy="755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Удостоверяющий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>
            <a:stCxn id="195" idx="0"/>
            <a:endCxn id="196" idx="1"/>
          </p:cNvCxnSpPr>
          <p:nvPr/>
        </p:nvCxnSpPr>
        <p:spPr>
          <a:xfrm flipH="1" flipV="1" rot="5400000">
            <a:off x="3683520" y="2244960"/>
            <a:ext cx="1097640" cy="8388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18" name=""/>
          <p:cNvSpPr/>
          <p:nvPr/>
        </p:nvSpPr>
        <p:spPr>
          <a:xfrm>
            <a:off x="2610000" y="2152800"/>
            <a:ext cx="1109520" cy="27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Сведения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te4"/>
          <p:cNvSpPr/>
          <p:nvPr/>
        </p:nvSpPr>
        <p:spPr>
          <a:xfrm>
            <a:off x="7227720" y="5380200"/>
            <a:ext cx="1470240" cy="100152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Вышестоящая 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Уполномоченный орг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te4"/>
          <p:cNvSpPr/>
          <p:nvPr/>
        </p:nvSpPr>
        <p:spPr>
          <a:xfrm>
            <a:off x="7929720" y="4022640"/>
            <a:ext cx="648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1" name=""/>
          <p:cNvCxnSpPr/>
          <p:nvPr/>
        </p:nvCxnSpPr>
        <p:spPr>
          <a:xfrm flipV="1">
            <a:off x="7956360" y="4220640"/>
            <a:ext cx="1080" cy="115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22" name=""/>
          <p:cNvSpPr/>
          <p:nvPr/>
        </p:nvSpPr>
        <p:spPr>
          <a:xfrm>
            <a:off x="7996320" y="4530600"/>
            <a:ext cx="866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6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 закупк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te4"/>
          <p:cNvSpPr/>
          <p:nvPr/>
        </p:nvSpPr>
        <p:spPr>
          <a:xfrm>
            <a:off x="755640" y="2133720"/>
            <a:ext cx="1211400" cy="16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Сводный реестр УБП федерального уров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4200" y="342900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2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A90A-0F5A-4141-AE50-B80EC8223D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ame3"/>
          <p:cNvSpPr/>
          <p:nvPr/>
        </p:nvSpPr>
        <p:spPr>
          <a:xfrm>
            <a:off x="1190520" y="1173240"/>
            <a:ext cx="7496280" cy="3195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Федеральное казначей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1569960"/>
            <a:ext cx="5513400" cy="2683080"/>
          </a:xfrm>
          <a:prstGeom prst="rect">
            <a:avLst/>
          </a:prstGeom>
          <a:solidFill>
            <a:srgbClr val="dddddd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Регистрация УБП уровня субъекта РФ (МО), ГВБ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te4"/>
          <p:cNvSpPr/>
          <p:nvPr/>
        </p:nvSpPr>
        <p:spPr>
          <a:xfrm>
            <a:off x="1190520" y="5380200"/>
            <a:ext cx="6148440" cy="1001520"/>
          </a:xfrm>
          <a:prstGeom prst="rect">
            <a:avLst/>
          </a:prstGeom>
          <a:solidFill>
            <a:srgbClr val="ccffcc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te4"/>
          <p:cNvSpPr/>
          <p:nvPr/>
        </p:nvSpPr>
        <p:spPr>
          <a:xfrm>
            <a:off x="4397400" y="5369040"/>
            <a:ext cx="285912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te4"/>
          <p:cNvSpPr/>
          <p:nvPr/>
        </p:nvSpPr>
        <p:spPr>
          <a:xfrm>
            <a:off x="1603440" y="5369040"/>
            <a:ext cx="279396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частник бюджетного процесса уровня субъекта РФ (МО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осударственные внебюджетные фо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te4"/>
          <p:cNvSpPr/>
          <p:nvPr/>
        </p:nvSpPr>
        <p:spPr>
          <a:xfrm>
            <a:off x="3220920" y="538020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te4"/>
          <p:cNvSpPr/>
          <p:nvPr/>
        </p:nvSpPr>
        <p:spPr>
          <a:xfrm>
            <a:off x="4780080" y="5380200"/>
            <a:ext cx="142848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31" idx="0"/>
          </p:cNvCxnSpPr>
          <p:nvPr/>
        </p:nvCxnSpPr>
        <p:spPr>
          <a:xfrm flipV="1">
            <a:off x="3727080" y="3974760"/>
            <a:ext cx="1080" cy="1405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34" name=""/>
          <p:cNvCxnSpPr/>
          <p:nvPr/>
        </p:nvCxnSpPr>
        <p:spPr>
          <a:xfrm>
            <a:off x="5508360" y="3357720"/>
            <a:ext cx="3960" cy="20152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35" name="plate4"/>
          <p:cNvSpPr/>
          <p:nvPr/>
        </p:nvSpPr>
        <p:spPr>
          <a:xfrm>
            <a:off x="4836960" y="5380200"/>
            <a:ext cx="665280" cy="2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te4"/>
          <p:cNvSpPr/>
          <p:nvPr/>
        </p:nvSpPr>
        <p:spPr>
          <a:xfrm>
            <a:off x="7122960" y="5369040"/>
            <a:ext cx="6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/>
          <p:nvPr/>
        </p:nvCxnSpPr>
        <p:spPr>
          <a:xfrm flipV="1">
            <a:off x="7164360" y="4291920"/>
            <a:ext cx="2160" cy="1080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38" name="frame3"/>
          <p:cNvSpPr/>
          <p:nvPr/>
        </p:nvSpPr>
        <p:spPr>
          <a:xfrm>
            <a:off x="7068960" y="1569960"/>
            <a:ext cx="1527480" cy="267012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фициальны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айт Российск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едераци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ети «Интерне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te4"/>
          <p:cNvSpPr/>
          <p:nvPr/>
        </p:nvSpPr>
        <p:spPr>
          <a:xfrm>
            <a:off x="7122960" y="4022640"/>
            <a:ext cx="6696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te4"/>
          <p:cNvSpPr/>
          <p:nvPr/>
        </p:nvSpPr>
        <p:spPr>
          <a:xfrm>
            <a:off x="70689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24200" y="4532400"/>
            <a:ext cx="7880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166520" y="4532400"/>
            <a:ext cx="85824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6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егистрация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на ОО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814720" y="3948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ФК/О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084720" y="1773360"/>
            <a:ext cx="9763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Размещ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анных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2640" y="153504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ЦА 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te4"/>
          <p:cNvSpPr/>
          <p:nvPr/>
        </p:nvSpPr>
        <p:spPr>
          <a:xfrm>
            <a:off x="3492360" y="3213000"/>
            <a:ext cx="121788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Прием и проверка докумен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te4"/>
          <p:cNvSpPr/>
          <p:nvPr/>
        </p:nvSpPr>
        <p:spPr>
          <a:xfrm>
            <a:off x="4859280" y="1773360"/>
            <a:ext cx="1282680" cy="75564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Регистрац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te4"/>
          <p:cNvSpPr/>
          <p:nvPr/>
        </p:nvSpPr>
        <p:spPr>
          <a:xfrm>
            <a:off x="1619280" y="3068640"/>
            <a:ext cx="1109520" cy="471600"/>
          </a:xfrm>
          <a:prstGeom prst="rect">
            <a:avLst/>
          </a:prstGeom>
          <a:solidFill>
            <a:srgbClr val="99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85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Перечень УБП уровня субъекта РФ (МО), ГВБ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te4"/>
          <p:cNvSpPr/>
          <p:nvPr/>
        </p:nvSpPr>
        <p:spPr>
          <a:xfrm>
            <a:off x="5637240" y="4941720"/>
            <a:ext cx="735120" cy="217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te4"/>
          <p:cNvSpPr/>
          <p:nvPr/>
        </p:nvSpPr>
        <p:spPr>
          <a:xfrm>
            <a:off x="7267680" y="4941720"/>
            <a:ext cx="689040" cy="2178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сертифика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te4"/>
          <p:cNvSpPr/>
          <p:nvPr/>
        </p:nvSpPr>
        <p:spPr>
          <a:xfrm rot="5400000">
            <a:off x="5765040" y="2229480"/>
            <a:ext cx="525600" cy="2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te4"/>
          <p:cNvSpPr/>
          <p:nvPr/>
        </p:nvSpPr>
        <p:spPr>
          <a:xfrm rot="5400000">
            <a:off x="5757840" y="2735280"/>
            <a:ext cx="5256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/>
          <p:nvPr/>
        </p:nvCxnSpPr>
        <p:spPr>
          <a:xfrm flipH="1">
            <a:off x="6156000" y="2349000"/>
            <a:ext cx="8640" cy="506880"/>
          </a:xfrm>
          <a:prstGeom prst="bentConnector3">
            <a:avLst>
              <a:gd name="adj1" fmla="val -1956521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54" name=""/>
          <p:cNvSpPr/>
          <p:nvPr/>
        </p:nvSpPr>
        <p:spPr>
          <a:xfrm>
            <a:off x="6300720" y="2276640"/>
            <a:ext cx="9716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5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дтверждение полномочий для выдачи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te4"/>
          <p:cNvSpPr/>
          <p:nvPr/>
        </p:nvSpPr>
        <p:spPr>
          <a:xfrm>
            <a:off x="4011480" y="3757680"/>
            <a:ext cx="438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08360" y="4437000"/>
            <a:ext cx="15382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2</a:t>
            </a: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редставление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кументов для регистрации организации,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Заявки на получение сертифика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te4"/>
          <p:cNvSpPr/>
          <p:nvPr/>
        </p:nvSpPr>
        <p:spPr>
          <a:xfrm>
            <a:off x="2879640" y="5408640"/>
            <a:ext cx="1573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te4"/>
          <p:cNvSpPr/>
          <p:nvPr/>
        </p:nvSpPr>
        <p:spPr>
          <a:xfrm rot="16200000">
            <a:off x="-931680" y="2449440"/>
            <a:ext cx="3067200" cy="52380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инансовый орган субъекта РФ (МО), орган управления ГВБ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te4"/>
          <p:cNvSpPr/>
          <p:nvPr/>
        </p:nvSpPr>
        <p:spPr>
          <a:xfrm>
            <a:off x="6035760" y="2101680"/>
            <a:ext cx="96840" cy="1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2928960"/>
            <a:ext cx="55134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17760" y="176544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19000" y="370836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17760" y="370836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17760" y="2019240"/>
            <a:ext cx="1652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317760" y="3301920"/>
            <a:ext cx="1652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36720" y="2197080"/>
            <a:ext cx="1666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455920" y="3330720"/>
            <a:ext cx="1648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te4"/>
          <p:cNvSpPr/>
          <p:nvPr/>
        </p:nvSpPr>
        <p:spPr>
          <a:xfrm>
            <a:off x="4849920" y="2610000"/>
            <a:ext cx="1282680" cy="755640"/>
          </a:xfrm>
          <a:prstGeom prst="rect">
            <a:avLst/>
          </a:prstGeom>
          <a:solidFill>
            <a:srgbClr val="cce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достоверяющий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"/>
          <p:cNvCxnSpPr/>
          <p:nvPr/>
        </p:nvCxnSpPr>
        <p:spPr>
          <a:xfrm flipH="1" flipV="1" rot="5400000">
            <a:off x="3795120" y="2189880"/>
            <a:ext cx="1103400" cy="991440"/>
          </a:xfrm>
          <a:prstGeom prst="bentConnector3">
            <a:avLst>
              <a:gd name="adj1" fmla="val 100456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70" name="plate4"/>
          <p:cNvSpPr/>
          <p:nvPr/>
        </p:nvSpPr>
        <p:spPr>
          <a:xfrm>
            <a:off x="7426440" y="5380200"/>
            <a:ext cx="1471320" cy="1001520"/>
          </a:xfrm>
          <a:prstGeom prst="rect">
            <a:avLst/>
          </a:prstGeom>
          <a:solidFill>
            <a:srgbClr val="ffcc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ышестоящая 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полномоченный орг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te4"/>
          <p:cNvSpPr/>
          <p:nvPr/>
        </p:nvSpPr>
        <p:spPr>
          <a:xfrm>
            <a:off x="8128080" y="4022640"/>
            <a:ext cx="66600" cy="2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endCxn id="271" idx="2"/>
          </p:cNvCxnSpPr>
          <p:nvPr/>
        </p:nvCxnSpPr>
        <p:spPr>
          <a:xfrm flipH="1" flipV="1">
            <a:off x="8160480" y="4227120"/>
            <a:ext cx="11880" cy="1146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lg" type="triangle" w="lg"/>
          </a:ln>
        </p:spPr>
      </p:cxnSp>
      <p:sp>
        <p:nvSpPr>
          <p:cNvPr id="273" name=""/>
          <p:cNvSpPr/>
          <p:nvPr/>
        </p:nvSpPr>
        <p:spPr>
          <a:xfrm>
            <a:off x="8196120" y="4530600"/>
            <a:ext cx="865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7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олучение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о закупка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72560" y="325584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627280" y="2205000"/>
            <a:ext cx="1109520" cy="274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4</a:t>
            </a:r>
            <a:r>
              <a:rPr b="1" lang="en-US" sz="900" spc="-1" strike="noStrike">
                <a:solidFill>
                  <a:srgbClr val="009999"/>
                </a:solidFill>
                <a:latin typeface="Times New Roman"/>
              </a:rPr>
              <a:t>.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Сведения об организаци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te4"/>
          <p:cNvSpPr/>
          <p:nvPr/>
        </p:nvSpPr>
        <p:spPr>
          <a:xfrm>
            <a:off x="1619280" y="3645000"/>
            <a:ext cx="1109520" cy="471240"/>
          </a:xfrm>
          <a:prstGeom prst="rect">
            <a:avLst/>
          </a:prstGeom>
          <a:solidFill>
            <a:srgbClr val="cccc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82800" bIns="46800" anchor="ctr">
            <a:noAutofit/>
          </a:bodyPr>
          <a:p>
            <a:pPr algn="ctr">
              <a:lnSpc>
                <a:spcPct val="8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Дополнительный перечень УБП уровня субъекта РФ (МО), ГВБ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625840" y="3645000"/>
            <a:ext cx="69372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3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"/>
          <p:cNvCxnSpPr/>
          <p:nvPr/>
        </p:nvCxnSpPr>
        <p:spPr>
          <a:xfrm>
            <a:off x="2700000" y="3428640"/>
            <a:ext cx="7549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79" name=""/>
          <p:cNvCxnSpPr/>
          <p:nvPr/>
        </p:nvCxnSpPr>
        <p:spPr>
          <a:xfrm>
            <a:off x="2700000" y="3860280"/>
            <a:ext cx="75492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280" name=""/>
          <p:cNvCxnSpPr/>
          <p:nvPr/>
        </p:nvCxnSpPr>
        <p:spPr>
          <a:xfrm>
            <a:off x="934560" y="3835080"/>
            <a:ext cx="6692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281" name=""/>
          <p:cNvCxnSpPr/>
          <p:nvPr/>
        </p:nvCxnSpPr>
        <p:spPr>
          <a:xfrm>
            <a:off x="934560" y="3433320"/>
            <a:ext cx="66924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26920" y="3141720"/>
            <a:ext cx="7149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еречень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БП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27640" y="3591000"/>
            <a:ext cx="57816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ru-RU" sz="900" spc="-1" strike="noStrike">
                <a:solidFill>
                  <a:srgbClr val="3366cc"/>
                </a:solidFill>
                <a:latin typeface="Times New Roman"/>
              </a:rPr>
              <a:t>1</a:t>
            </a:r>
            <a:r>
              <a:rPr b="1" lang="en-US" sz="900" spc="-1" strike="noStrike">
                <a:solidFill>
                  <a:srgbClr val="3366cc"/>
                </a:solidFill>
                <a:latin typeface="Times New Roman"/>
              </a:rPr>
              <a:t>.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Доп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перечень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56360" y="22050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DF76-37D3-4784-A0FD-7ACEF55C7F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Размещение на сайте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в сети «Интернет» информации о деятельности государственных и муниципаль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Приказ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Министерства финансов Российской Федерации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 порядке предоставления информации о деятельности государственных (муниципальных) учреждений и об использовании закрепленного за ними имущества, ее размещения на официальном сайте в сети Интернет и ведении указанного сайта 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(разрабатываетс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207-9062-457B-B50D-7970F960CE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250560" y="1483920"/>
            <a:ext cx="8785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Учредительные документы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, в том числе внесённые в них изме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Свидетельство о государственной регистрац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Решение учредителя о создани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Решение учредителя о назначении руководител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Положения о филиалах, представительства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План финансово-хозяйственной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Годовая бухгалтерская отчётность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государственного (муниципального) учрежд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Сведения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о контрольных мероприятиях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проведённых в отношении государственного (муниципального) учреждения, и их результата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Государственное (муниципальное) задани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на оказание услуг (выполнение рабо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5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Times New Roman"/>
              </a:rPr>
              <a:t>Отчёт о результатах деятельно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и об использовании закреплённого государственного (муниципального) имуще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76500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Сведения, подлежащие размещению на официальном сайте в сети Интер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91440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 изменениях в работе Федерального казначей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оответствии с положениями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едерального закона от 08.05.2010 № 83-ФЗ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О внесении изменений в отдельные законодательные акты Российской Федерации в связи с совершенствованием правового положения государственных (муниципальных) учреждений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606560" y="6021360"/>
            <a:ext cx="4537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Руководитель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Р. Е. Артюхи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412640"/>
            <a:ext cx="86421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остановления Правительства Российской Федерации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9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риказов Министерства финансо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501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Times New Roman"/>
              </a:rPr>
              <a:t>6</a:t>
            </a:r>
            <a:r>
              <a:rPr b="1" lang="en-US" sz="3200" spc="-1" strike="noStrike">
                <a:solidFill>
                  <a:srgbClr val="6699ff"/>
                </a:solidFill>
                <a:latin typeface="Times New Roman"/>
              </a:rPr>
              <a:t> – </a:t>
            </a:r>
            <a:r>
              <a:rPr b="1" lang="en-US" sz="2800" spc="-1" strike="noStrike">
                <a:solidFill>
                  <a:srgbClr val="6699ff"/>
                </a:solidFill>
                <a:latin typeface="Times New Roman"/>
              </a:rPr>
              <a:t>приказов Федерального казначей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Дополнительно: 22 нормативно-правовых акта, вносящих изменения в отдельные акты Правительства Российской Федерации, Министерства финансов Российской Федерации, Федерального казначейства</a:t>
            </a:r>
            <a:r>
              <a:rPr b="1" lang="en-US" sz="1800" spc="-1" strike="noStrike">
                <a:solidFill>
                  <a:srgbClr val="6699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Количество нормативно-правовых актов, устанавливающих изменения в работе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229360"/>
            <a:ext cx="864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244B-70DC-43D6-B528-860E51AA2E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Открытие и ведение лицевых счетов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6421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500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imes New Roman"/>
              </a:rPr>
              <a:t>Приказ Федерального казначейства</a:t>
            </a:r>
            <a:r>
              <a:rPr b="0" lang="ru-RU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О внесении изменений в приказ Федерального казначейства от 7 октября 2008 г. № 7н «О порядке открытия и ведения лицевых счетов Федеральным казначейством и его территориальными органами»</a:t>
            </a:r>
            <a:r>
              <a:rPr b="0" lang="ru-RU" sz="2800" spc="-1" strike="noStrike">
                <a:solidFill>
                  <a:srgbClr val="6699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6699ff"/>
                </a:solidFill>
                <a:latin typeface="Times New Roman"/>
              </a:rPr>
              <a:t>(проект размещен 21.06.2010 на официальном сайте Минфина России </a:t>
            </a:r>
            <a:r>
              <a:rPr b="0" lang="en-US" sz="2000" spc="-1" strike="noStrike">
                <a:solidFill>
                  <a:srgbClr val="6699ff"/>
                </a:solidFill>
                <a:latin typeface="Times New Roman"/>
              </a:rPr>
              <a:t>minfin.ru</a:t>
            </a:r>
            <a:r>
              <a:rPr b="0" lang="ru-RU" sz="2000" spc="-1" strike="noStrike">
                <a:solidFill>
                  <a:srgbClr val="6699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Наименование нормативно-правового а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C3FB-7D3D-4C41-BFD7-4D65697C76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69228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Открытие лицевых счетов бюджетных (автономных)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516720" y="1557360"/>
            <a:ext cx="2449440" cy="5113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1268280"/>
          <a:ext cx="8280360" cy="543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68280"/>
                    <a:ext cx="8280360" cy="54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95280" y="1484280"/>
            <a:ext cx="2376360" cy="5184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8865800">
            <a:off x="4847040" y="4962960"/>
            <a:ext cx="515880" cy="289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FA96-DA27-4260-BFEA-22F51E70F3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Лицевой счёт бюджетного учрежден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для учета операций со средствами, предоставленными в виде субсидий из бюджета на возмещение нормативных затрат, связанных с оказанием государственных (муниципальных) услуг (выполнением работ) в соответствии с государственным (муниципальным) задани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Отдельный лицевой счёт бюджетного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ля учета операций со средствами, предоставленными в виде субсидий из бюджетов на иные цели, а также бюджетных инвестиц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imes New Roman"/>
              </a:rPr>
              <a:t>Лицевой счёт автономного учреждени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ля учёта операций со средствами автономных учрежде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765000"/>
            <a:ext cx="896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иды лицевых счетов, открываемых</a:t>
            </a:r>
            <a:br>
              <a:rPr sz="2000"/>
            </a:b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в органах Федерального казначейства (финансовых органа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625-A873-4F50-8B2D-FD4335B302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Заявление на открытие лицевого счё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учета операций неучастника бюджет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арточка образцов подпис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 лицевому счёту для учета операций неучастника бюджетного проце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учредительного докумен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оложения об обособленном подразделении, утверждённого создавшим его бюджетным (автономным) учреждением (в случае открытия лицевого счёта обособленному подразделению), заверенная учредителем либо нотариа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документа о государственной регистрации юридического лиц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заверенная учредителем или нотариально, либо органом, осуществляющим государственную регистрац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2001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99ff"/>
                </a:solidFill>
                <a:latin typeface="Times New Roman"/>
              </a:rPr>
              <a:t>Копия Свидетельства о постановке на учёт юридического лица в налоговом орган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есту нахождения на территории РФ, Уведомления о постановке на учёт в налоговом органе юридического лица (в случае открытия лицевого счёта обособленному подразделению), заверенного нотариально либо выдавшим их налоговым орган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69228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Документы, необходимые для открытия лицевых счетов</a:t>
            </a:r>
            <a:br>
              <a:rPr sz="2000"/>
            </a:br>
            <a:r>
              <a:rPr b="1" lang="en-US" sz="2000" spc="-1" strike="noStrike" u="sng">
                <a:solidFill>
                  <a:srgbClr val="ff7c80"/>
                </a:solidFill>
                <a:uFillTx/>
                <a:latin typeface="Times New Roman"/>
              </a:rPr>
              <a:t>бюджетным (автономным) учрежд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D86-216D-49DC-B08F-DE2880A003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Проведение кассовых выплат</a:t>
            </a:r>
            <a:br>
              <a:rPr sz="3200"/>
            </a:b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за счёт средств бюджетных и автономных учрежден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3:01:31Z</dcterms:created>
  <dc:creator>User49</dc:creator>
  <dc:description/>
  <dc:language>en-US</dc:language>
  <cp:lastModifiedBy>АМС</cp:lastModifiedBy>
  <dcterms:modified xsi:type="dcterms:W3CDTF">2010-06-24T05:28:56Z</dcterms:modified>
  <cp:revision>130</cp:revision>
  <dc:subject/>
  <dc:title>О перспективах развития Федерального казначейства</dc:title>
</cp:coreProperties>
</file>